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76DA-72F7-441E-832A-258605027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9CD7-91A8-4F3A-9535-74112355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8CD8-C1D8-49A1-BF34-EEBC63A5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6225-82C4-488E-B4F1-93ADD7516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89E2-28E0-496E-99EB-B360BD8F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8212-586E-4B6C-9A33-848C1487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361A-E30B-4C38-AE30-1D9A1B91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1B9A-48D7-4263-9CD4-C71B1AFE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5B7F-1829-4318-85A5-2AC13EA2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5D1C-A216-4C1C-8C84-90D6962D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E398-28B7-49D6-B042-AE292113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72B0-B3AB-44D9-A236-F6F9C086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D4F6-0C07-43C3-B27A-0ABD93D56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people like more processed beef or feedyard bee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Clayton Du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Zane, Erik, Tristen, Tristin, Kaci, Hannah, Holly, and Sara. To my mom for getting the hamburger from Dill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"History of Hamburgers, Hamburger History, Hamburg Steak, What Is a True Hamburger? Meat Choppers, Cheeseburgers." </a:t>
            </a:r>
            <a:r>
              <a:rPr b="0" i="1" lang="en" sz="2000" spc="-1" strike="noStrike">
                <a:solidFill>
                  <a:srgbClr val="000000"/>
                </a:solidFill>
                <a:latin typeface="Arial"/>
              </a:rPr>
              <a:t>What's Cooking America, Cooking Recipes, Food History, Dinner Party Menus and Recipes, Health and Beauty Articles, Culinary Dictionary, Baking Hints, Cooking Tips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 Web. 19 Jan. 2012. &lt;http://whatscookingamerica.net/History/HamburgerHistory.htm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"The History of the Hamburger | A Hamburger Today." </a:t>
            </a:r>
            <a:r>
              <a:rPr b="0" i="1" lang="en" sz="2000" spc="-1" strike="noStrike">
                <a:solidFill>
                  <a:srgbClr val="000000"/>
                </a:solidFill>
                <a:latin typeface="Arial"/>
              </a:rPr>
              <a:t>A Hamburger Today - America's Favorite Hamburger Weblog!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Web. 19 Jan. 2012. &lt;http://aht.seriouseats.com/archives/2005/08/the_history_of.html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"The History of Hamburgers - From the Saddle to the Drive up." </a:t>
            </a:r>
            <a:r>
              <a:rPr b="0" i="1" lang="en" sz="2000" spc="-1" strike="noStrike">
                <a:solidFill>
                  <a:srgbClr val="000000"/>
                </a:solidFill>
                <a:latin typeface="Arial"/>
              </a:rPr>
              <a:t>Barbecue Recipes and Grill Information from Barbecue &amp; Grilling at About.com - BBQ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 Web. 19 Jan. 2012. &lt;http://bbq.about.com/cs/hamburgers/a/aa070597.htm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think the test subjects will like the feed yard beef la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mbu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u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Buy hambu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ook at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Let them eat and tell me what they        think on a scale of 1 to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Record data in excel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- Processed beef to feed yard be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t- Their choice on what is b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ed- Same beef for both girls and b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I cooked the burgers. I asked my test subjects what they thought would taste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one including boys and girls thought the feedyard beef tasted better. Out of ten all my test subjects gave n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Ap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omeone got ahold of my information then they would know the processed meat doesn’t taste as good as feed yard be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Sp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pent two hours gathering materials and coo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7:20:15Z</dcterms:created>
  <dc:creator>USD376</dc:creator>
  <dc:description/>
  <dc:language>en-US</dc:language>
  <cp:lastModifiedBy>USD376</cp:lastModifiedBy>
  <dcterms:modified xsi:type="dcterms:W3CDTF">2012-03-06T17:25:25Z</dcterms:modified>
  <cp:revision>7</cp:revision>
  <dc:subject/>
  <dc:title>What do people like more processed beef or feedyard beef?</dc:title>
</cp:coreProperties>
</file>